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9E3-3DE5-475E-A5E6-5BCFE711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EB4-E167-468F-A378-6F8D9DF6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0E5-8D3B-4F88-B3B5-BBA1CAC1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108-CDC9-4F8E-9BAC-0D3CF7C6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8C9-466D-494F-82B8-3667F676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81B-DED5-4EE2-ACF7-A9764497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369-08BD-4459-A0A7-4C3AA10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785-C3F3-441D-9AD3-EF2A95F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9C3-7BA3-477D-AEDA-58416546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726-7887-46D3-944C-1CF444C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7AE-706F-4B49-AC11-9EB8C5F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7B7-61A5-4E53-81DB-5A11CE3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128D-EC8B-4F8F-ABAA-4033F9BAF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opy of elkhorn creek scene.jpg"/>
          <p:cNvPicPr/>
          <p:nvPr/>
        </p:nvPicPr>
        <p:blipFill>
          <a:blip r:embed="rId1">
            <a:lum contrast="-2000"/>
            <a:alphaModFix amt="87000"/>
          </a:blip>
          <a:stretch/>
        </p:blipFill>
        <p:spPr>
          <a:xfrm>
            <a:off x="0" y="0"/>
            <a:ext cx="913608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1"/>
          <p:cNvSpPr/>
          <p:nvPr/>
        </p:nvSpPr>
        <p:spPr>
          <a:xfrm>
            <a:off x="152280" y="51814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KET’s Newest Instructional Media Resource in Environmental Education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1763280" y="1363680"/>
            <a:ext cx="57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Raindrops to Riv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Your Presenter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520" y="114300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r. Melinda Wil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irector of Division of Natur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fessor, College of Education, E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elinda.wilder@eku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9-622-1476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358128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rry Moo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KET Education Consulta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orth Central 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moore@ket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-800-432-095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Documents and Settings\lmoore\Local Settings\Temporary Internet Files\Content.IE5\W6CZ5M85\MCPE01923_0000[1].wmf"/>
          <p:cNvPicPr/>
          <p:nvPr/>
        </p:nvPicPr>
        <p:blipFill>
          <a:blip r:embed="rId1"/>
          <a:stretch/>
        </p:blipFill>
        <p:spPr>
          <a:xfrm>
            <a:off x="4876920" y="3801960"/>
            <a:ext cx="396216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lmoore\Local Settings\Temporary Internet Files\Content.IE5\U94KK8F1\MCj03111200000[1].wmf"/>
          <p:cNvPicPr/>
          <p:nvPr/>
        </p:nvPicPr>
        <p:blipFill>
          <a:blip r:embed="rId2"/>
          <a:stretch/>
        </p:blipFill>
        <p:spPr>
          <a:xfrm flipH="1">
            <a:off x="5748120" y="990720"/>
            <a:ext cx="31669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ket-b-t-75px.gif"/>
          <p:cNvPicPr/>
          <p:nvPr/>
        </p:nvPicPr>
        <p:blipFill>
          <a:blip r:embed="rId3"/>
          <a:stretch/>
        </p:blipFill>
        <p:spPr>
          <a:xfrm rot="19897800">
            <a:off x="5327640" y="4254120"/>
            <a:ext cx="1052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320" y="327672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lectronic Field Tr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o a Water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VD with two 15-minute programs  one for grades 3-5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ne for Grades 6-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2767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esented on CD-ROM and the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D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upports content presented  in the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Electronic Field Trip to a Watershed with models of exemplary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8"/>
          <p:cNvSpPr/>
          <p:nvPr/>
        </p:nvSpPr>
        <p:spPr>
          <a:xfrm>
            <a:off x="0" y="2589120"/>
            <a:ext cx="9144000" cy="1800"/>
          </a:xfrm>
          <a:prstGeom prst="line">
            <a:avLst/>
          </a:prstGeom>
          <a:ln w="2232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2438280" y="50796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Raindrop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3429000" y="1182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3886200" y="120348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304920" y="2590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ponents of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2209680"/>
            <a:ext cx="89154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Two 15-minute programs – one for grades 3-5 , one for Grades 6-8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The programs contai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irtual visit to a watershed, showing Kentucky rivers flowing into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larger basins and ultimately, the Gulf of Mex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pecific Kentucky geography including urban and rural setting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mountains, rivers and streams, karst, sinkholes, and wetl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llustrates the most common forms of nonpoint (nps) sour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pollution and what can be done to help elimina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some of its 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3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signed to help teachers plan and implement lessons about nonpoint source water pol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ar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t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rade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ubject mat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unded in part by a grant from the U.S. Environmental Protection Agency under §319(h) of the Clean Water Act. Administered through the KY Division of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lmoore\Local Settings\Temporary Internet Files\Content.IE5\U94KK8F1\MCj03111200000[1].wmf"/>
          <p:cNvPicPr/>
          <p:nvPr/>
        </p:nvPicPr>
        <p:blipFill>
          <a:blip r:embed="rId1"/>
          <a:stretch/>
        </p:blipFill>
        <p:spPr>
          <a:xfrm flipH="1">
            <a:off x="6781320" y="76320"/>
            <a:ext cx="2133720" cy="1282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achers from across the state that had been involved in workshops focusing on nps water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lmed classrooms demonstrating best practices in environmental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uden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lmoore\Local Settings\Temporary Internet Files\Content.IE5\U94KK8F1\MCj03111200000[1].wmf"/>
          <p:cNvPicPr/>
          <p:nvPr/>
        </p:nvPicPr>
        <p:blipFill>
          <a:blip r:embed="rId3"/>
          <a:stretch/>
        </p:blipFill>
        <p:spPr>
          <a:xfrm flipH="1">
            <a:off x="6629040" y="3809880"/>
            <a:ext cx="2133720" cy="128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lmoore\Local Settings\Temporary Internet Files\Content.IE5\U94KK8F1\MCj03111200000[1].wmf"/>
          <p:cNvPicPr/>
          <p:nvPr/>
        </p:nvPicPr>
        <p:blipFill>
          <a:blip r:embed="rId4"/>
          <a:stretch/>
        </p:blipFill>
        <p:spPr>
          <a:xfrm flipH="1">
            <a:off x="4495680" y="4648320"/>
            <a:ext cx="182880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lmoore\Local Settings\Temporary Internet Files\Content.IE5\U94KK8F1\MCj03111200000[1].wmf"/>
          <p:cNvPicPr/>
          <p:nvPr/>
        </p:nvPicPr>
        <p:blipFill>
          <a:blip r:embed="rId5"/>
          <a:stretch/>
        </p:blipFill>
        <p:spPr>
          <a:xfrm flipH="1">
            <a:off x="2590920" y="4572000"/>
            <a:ext cx="1295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urr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Raindrops to River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ttp://www.raindropstorivers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ore Con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uture Resour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TIP format lesson pl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acher’s guide for Electronic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Fieldtrip to a Watersh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lmoore\Local Settings\Temporary Internet Files\Content.IE5\U94KK8F1\MCAN02097_0000[1].wmf"/>
          <p:cNvPicPr/>
          <p:nvPr/>
        </p:nvPicPr>
        <p:blipFill>
          <a:blip r:embed="rId2"/>
          <a:stretch/>
        </p:blipFill>
        <p:spPr>
          <a:xfrm flipH="1">
            <a:off x="7469280" y="2209680"/>
            <a:ext cx="1674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moore</cp:lastModifiedBy>
  <dcterms:modified xsi:type="dcterms:W3CDTF">2008-09-12T17:54:30Z</dcterms:modified>
  <cp:revision>14</cp:revision>
  <dc:subject/>
  <dc:title>Slide 1</dc:title>
</cp:coreProperties>
</file>